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16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904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16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904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836360" y="399600"/>
            <a:ext cx="7056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216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7904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0492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216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7904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36360" y="399600"/>
            <a:ext cx="7056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4989240"/>
            <a:ext cx="658836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Class Name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Arial Narrow"/>
              </a:rPr>
              <a:t>Presented by: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PoweredTemplates.com</dc:creator>
  <dc:description/>
  <dc:language>en-US</dc:language>
  <cp:lastModifiedBy>Franklin</cp:lastModifiedBy>
  <cp:lastPrinted>2008-08-25T19:21:40Z</cp:lastPrinted>
  <dcterms:modified xsi:type="dcterms:W3CDTF">2009-03-31T15:45:26Z</dcterms:modified>
  <cp:revision>67</cp:revision>
  <dc:subject/>
  <dc:title>PowerPoint Template</dc:title>
</cp:coreProperties>
</file>